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862-6181-4A4B-B2E5-304E67A0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031-D352-499F-AA66-7635113F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041-5CEC-4129-8D6A-C7DC8F2E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619-49EC-4CBA-BA51-C9A32AFD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ED4D-0026-4039-A9A1-BFDF9A66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EA6A-8444-414D-BA5E-1E01815B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BC99-2BD7-48C7-8C4B-4294D275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DA24-673F-47CA-A1F1-36815A40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0924-DB35-4673-A495-C6DFFC5C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6247-8BDF-43D9-B408-FECF6599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EE61-42A7-4810-9709-BE67F6D6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EA3-CB52-4FE3-90EE-2D2E8D9B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6743-4235-449C-B7BD-3CB75DDC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533C-1BC4-4711-940E-47E2CE2F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3B58-EA6E-485E-9B64-D5347DB2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55A6-96CF-464B-90D0-06540674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DEAB-C556-419D-8EE0-EEB5F8F8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8EC-8A04-4854-9832-EAE70CAC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1ED-4D27-4FD9-B6EE-5E29020A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FDC-3171-4ECE-8252-670C23D8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689-5174-431A-8A6E-FAB7DED7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673-6F6F-4DF7-86A2-F6452A0B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100-4FA2-4132-9A38-DD11F1C4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95B-A873-4A71-B5EF-A11B837D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F8A8-31C7-4241-9A6D-BE45E35153E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8F4A-45EA-4B7E-8A74-677FB4BD7D6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English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Oct. 7, 2009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rk on test/group 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ve an AR book by Fri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Your odds of appering on the Tonight Show are one in 490,000 your odds of being killed in a plane crash are one in 11 million your odds of winning the reader’s digest sweepstakes are one in two hundred thirteen millio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O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hip:bridge:: ________:cockpi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loquent:words:: nimble:_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ssig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rk on test/group 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3:14:05Z</dcterms:created>
  <dc:creator>VMS</dc:creator>
  <dc:description/>
  <dc:language>en-US</dc:language>
  <cp:lastModifiedBy>VMS</cp:lastModifiedBy>
  <dcterms:modified xsi:type="dcterms:W3CDTF">2009-10-07T19:34:17Z</dcterms:modified>
  <cp:revision>2</cp:revision>
  <dc:subject/>
  <dc:title>English</dc:title>
</cp:coreProperties>
</file>